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85F8-4A49-4D54-AF42-6BA02FBAA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FC1A-04A4-4817-8989-0B8599328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D8C-FACE-4193-8CA1-F770DDBE6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EB0F-215E-470B-B41E-E1A3E8C33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B862-373C-4F01-A231-8BD9BAC45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D79F-82D0-4ACA-AC51-C6DD86172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265-5013-429C-A0DF-A20429FAA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650-266D-4C2B-9B8E-8A21F1D0C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5181-C9D6-4C80-9990-AE611E488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CDF-DF28-438B-BF6B-82BDE5178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A601-19FC-47F4-B7B0-A96D2EAD6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7CF-6948-40E8-8FDA-5DB19EB1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445-019B-48C0-AF2E-2AA62274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DA3-63FF-4D7B-B00D-5C3F8A61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18B-4C99-462D-BCF2-2E526840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81B-4A64-43E5-A4E5-356BF77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3DC-BDA2-4C72-8790-CBA4775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6EB-667E-4B6A-8842-659F5C5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43D-E5DF-4E5C-93E1-8636ED46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E4F-322B-4B9A-BD29-E03C0A1F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B2C-CAE8-403C-A46D-DB6D94D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CB6-ABE8-4F7B-B29E-F2D4126B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15E-444D-4810-A4A7-DE889589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E36E-6315-41FC-96B3-52CDF8EC00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6AAC-FDA7-4626-A87A-1F8DF1A8EB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18. 12. 2018, Lichtenštejnský palác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92F6-11B3-4276-8C70-1B942EA33E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7F3E-0B87-4A4E-8261-10C83321A4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18E-FC2E-4251-A987-13282148D5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6AF2-ECB2-4A5E-B87B-FCF5AC105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077A-00BE-4BF0-9113-BEB17D18CE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B645-3F9D-4485-850B-C82C8EA7F4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709D-263B-4A8F-B0E9-2DEBD13C72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6EEE-7A9F-46C4-8F33-0FACD5B425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690D-5A73-4432-96AD-C87060DA91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55C6-80F3-45F1-84EA-B11B67C73E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majer</cp:lastModifiedBy>
  <cp:lastPrinted>2018-03-13T15:15:38Z</cp:lastPrinted>
  <dcterms:modified xsi:type="dcterms:W3CDTF">2018-12-18T11:34:22Z</dcterms:modified>
  <cp:revision>109</cp:revision>
  <dc:subject/>
  <dc:title>Prezentace aplikace PowerPoint</dc:title>
</cp:coreProperties>
</file>